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54B-06B9-430B-91BE-19BEB23B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C4B-37CD-470E-B872-93D9E8A3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54F-4566-4B1C-BA74-5555C58C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635-1046-46CB-B256-2BF61150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743-0330-47B6-AB62-F99388AB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F6A-34C4-4676-8E4A-A558AC89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0D5-9C2D-4A9C-9BAD-0387D03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028-6DF7-47AF-810C-E4AFCD0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38F-943B-4A94-9171-C7112D1F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E59-216F-4783-B1B5-712DB8B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AF9-8D59-405F-AC0B-2689389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1EB-22D7-44CD-846C-8F6B4B6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B467-D6D6-4475-A3ED-35551D220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youtube.com/watch?v=JPZ_DkR4aZ4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nsu.edu/emuseum/prehistory/china/early_imperial_china/han.html" TargetMode="External"/><Relationship Id="rId2" Type="http://schemas.openxmlformats.org/officeDocument/2006/relationships/hyperlink" Target="http://www.travelchinaguide.com/intro/history/han/western.htm" TargetMode="External"/><Relationship Id="rId3" Type="http://schemas.openxmlformats.org/officeDocument/2006/relationships/hyperlink" Target="http://edgarlowen.com/b4423.jpg" TargetMode="External"/><Relationship Id="rId4" Type="http://schemas.openxmlformats.org/officeDocument/2006/relationships/hyperlink" Target="http://history.cultural-china.com/chinaWH/upload/upfiles/2009-05/13/weapons_of_the_qin_and_han_dynasties6a9ed81cede0b1e4cc7f.jpg" TargetMode="External"/><Relationship Id="rId5" Type="http://schemas.openxmlformats.org/officeDocument/2006/relationships/hyperlink" Target="http://asiasociety.org/files/800px-Silk_Route_extant.JPG" TargetMode="External"/><Relationship Id="rId6" Type="http://schemas.openxmlformats.org/officeDocument/2006/relationships/hyperlink" Target="http://www.historyforkids.org/learn/china/history/stoneage.htm" TargetMode="External"/><Relationship Id="rId7" Type="http://schemas.openxmlformats.org/officeDocument/2006/relationships/hyperlink" Target="http://www.nadeausauction.com/auctiondata/109179/images/14.0.jpg" TargetMode="External"/><Relationship Id="rId8" Type="http://schemas.openxmlformats.org/officeDocument/2006/relationships/hyperlink" Target="http://www.jamb.ca/gallery/albums/Georgia/watermill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d/Da-ming-hun-yi-tu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388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 Dynas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 B.C.E-221 C.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aci Hastings &amp; Jamie Ly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lyverj298\My Documents\My Pictures\Gentlemen_in_conversation,_Eastern_Han_Dynasty.jpg"/>
          <p:cNvPicPr/>
          <p:nvPr/>
        </p:nvPicPr>
        <p:blipFill>
          <a:blip r:embed="rId2"/>
          <a:stretch/>
        </p:blipFill>
        <p:spPr>
          <a:xfrm>
            <a:off x="2411280" y="4149720"/>
            <a:ext cx="4065840" cy="2467080"/>
          </a:xfrm>
          <a:prstGeom prst="rect">
            <a:avLst/>
          </a:prstGeom>
          <a:ln w="69840">
            <a:solidFill>
              <a:srgbClr val="a90b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1125360"/>
            <a:ext cx="49784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entr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emperor was Liu B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ed by a grand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www.aboutchina.info/wp-content/uploads/2010/06/IMAG1230001894720860.jpg"/>
          <p:cNvPicPr/>
          <p:nvPr/>
        </p:nvPicPr>
        <p:blipFill>
          <a:blip r:embed="rId1"/>
          <a:stretch/>
        </p:blipFill>
        <p:spPr>
          <a:xfrm>
            <a:off x="2987640" y="3429000"/>
            <a:ext cx="2519280" cy="3024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4932360" y="198900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c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d into prov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ilosoph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ntegration of Confucianism and Legal practices was created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system was known as State Confucianism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deology of Confucianism was applied to the government and the leaders were chosen by character over bi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413000"/>
            <a:ext cx="536400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ismograph made in 132 C.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to predict earthquakes and the movement of the ear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iron balls sit in the mouth of the dragons and when it senses earth movements it drops into the frogs mouth, then measurements can be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lyverj298\My Documents\My Pictures\images.jpg"/>
          <p:cNvPicPr/>
          <p:nvPr/>
        </p:nvPicPr>
        <p:blipFill>
          <a:blip r:embed="rId1"/>
          <a:stretch/>
        </p:blipFill>
        <p:spPr>
          <a:xfrm>
            <a:off x="611280" y="4653000"/>
            <a:ext cx="4248000" cy="2012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5724360" y="1557360"/>
            <a:ext cx="2951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seeking compass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youtube.com/watch?v=JPZ_DkR4aZ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www.aspects.net/~janus/Han_Dynasty_compass.jpg"/>
          <p:cNvPicPr/>
          <p:nvPr/>
        </p:nvPicPr>
        <p:blipFill>
          <a:blip r:embed="rId3"/>
          <a:stretch/>
        </p:blipFill>
        <p:spPr>
          <a:xfrm>
            <a:off x="5435640" y="4005360"/>
            <a:ext cx="33037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1599840"/>
            <a:ext cx="8218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tual Sacrifices , animals and food to deities and spir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believed that each person was a two part soul, the spirit soul (Hun) and the body soul (P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eror acted as the highest pri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ities were known as the Five P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believed that if the emperor did not behave according to ritual he could disrupt the balance and cause earthquakes, flood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n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ved that immortality could be achieved by performing breathing exercises, sexual techniques and medical elix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one lived in harmony through “yin and yang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rse was a very spiritual 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n invented paper, lead glazed ceramics and had complex ways of silk wea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ulptures and small figuri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t work and inscriptions have been found on the side of t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 storied buil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different designs of rooft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ck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stic courtyards were m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nsu.edu/emuseum/prehistory/china/early_imperial_china/han.htm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ues. 28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ravelchinaguide.com/intro/history/han/western.ht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ues. 28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dgarlowen.com/b4423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ues. 28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story.cultural-china.com/chinaWH/upload/upfiles/2009-05/13/weapons_of_the_qin_and_han_dynasties6a9ed81cede0b1e4cc7f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Wed. 29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siasociety.org/files/800px-Silk_Route_extant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Wed. 29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historyforkids.org/learn/china/history/stoneage.ht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Wed. 29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ld history fourth edition text bo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nadeausauction.com/auctiondata/109179/images/14.0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jamb.ca/gallery/albums/Georgia/watermill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n.wikipedia.org/wiki/Han_Dynasty#Social_class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arthobservatory.nasa.gov/Features/GlobalLandSurvey/images/rice_paddy.jpg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mitchellteachers.net/WorldHistory/AncientChinaCurriculum/Transparencies/HansTransMerchants.jpg 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"Han Dynasty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hina Window - China's Home on the We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Web. 01 Oct. 2010. &lt;http://www.china-window.com/china_briefing/china_history/chinese-historyhan-dynast.shtml&gt;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"Geography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cient China - The British Museu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Web. 01 Oct. 2010. &lt;http://www.ancientchina.co.uk/geography/home_set.html&gt;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n.wikipedia.org/wiki/Society_and_culture_of_the_Han_Dynasty#Slaves Sunday, Oct. 3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Han_Dynasty_Map.jpg"/>
          <p:cNvPicPr/>
          <p:nvPr/>
        </p:nvPicPr>
        <p:blipFill>
          <a:blip r:embed="rId1"/>
          <a:stretch/>
        </p:blipFill>
        <p:spPr>
          <a:xfrm>
            <a:off x="784080" y="1600200"/>
            <a:ext cx="757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508720" y="765000"/>
            <a:ext cx="3178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est, Himalay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llow and Yangzi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crop was 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flooding of 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File:Da-ming-hun-yi-t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6520" y="2060640"/>
            <a:ext cx="4425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55736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trade with central and southeast 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to India and Mediterran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cy and coin minting grew significa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k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rs had sal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asiasociety.org/files/800px-Silk_Route_extant.JPG"/>
          <p:cNvPicPr/>
          <p:nvPr/>
        </p:nvPicPr>
        <p:blipFill>
          <a:blip r:embed="rId1"/>
          <a:stretch/>
        </p:blipFill>
        <p:spPr>
          <a:xfrm>
            <a:off x="4643280" y="2060640"/>
            <a:ext cx="4202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llected 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trade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d weapons, operated shipyards, granaries and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history.cultural-china.com/chinaWH/upload/upfiles/2009-05/13/weapons_of_the_qin_and_han_dynasties6a9ed81cede0b1e4cc7f.jpg"/>
          <p:cNvPicPr/>
          <p:nvPr/>
        </p:nvPicPr>
        <p:blipFill>
          <a:blip r:embed="rId2"/>
          <a:stretch/>
        </p:blipFill>
        <p:spPr>
          <a:xfrm>
            <a:off x="1187280" y="4005360"/>
            <a:ext cx="278784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edgarlowen.com/b4423.jpg"/>
          <p:cNvPicPr/>
          <p:nvPr/>
        </p:nvPicPr>
        <p:blipFill>
          <a:blip r:embed="rId3"/>
          <a:stretch/>
        </p:blipFill>
        <p:spPr>
          <a:xfrm>
            <a:off x="6012000" y="3429000"/>
            <a:ext cx="2187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acheiv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xtile manufactu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m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on 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i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overnment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www.jamb.ca/gallery/albums/Georgia/watermill.jpg"/>
          <p:cNvPicPr/>
          <p:nvPr/>
        </p:nvPicPr>
        <p:blipFill>
          <a:blip r:embed="rId1"/>
          <a:stretch/>
        </p:blipFill>
        <p:spPr>
          <a:xfrm>
            <a:off x="5292720" y="11970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www.nadeausauction.com/auctiondata/109179/images/14.0.jpg"/>
          <p:cNvPicPr/>
          <p:nvPr/>
        </p:nvPicPr>
        <p:blipFill>
          <a:blip r:embed="rId2"/>
          <a:stretch/>
        </p:blipFill>
        <p:spPr>
          <a:xfrm>
            <a:off x="3851280" y="4076640"/>
            <a:ext cx="4826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and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chants  had severe constr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asants became ten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were taxed to the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y(with Emperor at the to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i Ba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earthobservatory.nasa.gov/Features/GlobalLandSurvey/images/rice_paddy.jpg"/>
          <p:cNvPicPr/>
          <p:nvPr/>
        </p:nvPicPr>
        <p:blipFill>
          <a:blip r:embed="rId2"/>
          <a:stretch/>
        </p:blipFill>
        <p:spPr>
          <a:xfrm>
            <a:off x="4427640" y="4365720"/>
            <a:ext cx="3870360" cy="19350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63" name="Picture 4" descr="http://www.mitchellteachers.net/WorldHistory/AncientChinaCurriculum/Transparencies/HansTransMerchants.jpg"/>
          <p:cNvPicPr/>
          <p:nvPr/>
        </p:nvPicPr>
        <p:blipFill>
          <a:blip r:embed="rId3"/>
          <a:stretch/>
        </p:blipFill>
        <p:spPr>
          <a:xfrm>
            <a:off x="4572000" y="1341360"/>
            <a:ext cx="3600360" cy="2633760"/>
          </a:xfrm>
          <a:prstGeom prst="rect">
            <a:avLst/>
          </a:prstGeom>
          <a:ln w="4752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der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360" y="1628280"/>
            <a:ext cx="3456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ves did not have the same treatment as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images.stanzapub.com/readers/socyberty/2008/08/10/261881_14.jpg"/>
          <p:cNvPicPr/>
          <p:nvPr/>
        </p:nvPicPr>
        <p:blipFill>
          <a:blip r:embed="rId1"/>
          <a:stretch/>
        </p:blipFill>
        <p:spPr>
          <a:xfrm>
            <a:off x="4356000" y="1557360"/>
            <a:ext cx="3672000" cy="2251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500720" y="429264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en were to Ob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ed at home and did hous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e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http://arts.cultural-china.com/chinaWH/upload/upfiles/2009-05/26/women_in_chinese_painting853f64ac2f1acdd33f71.jpg"/>
          <p:cNvPicPr/>
          <p:nvPr/>
        </p:nvPicPr>
        <p:blipFill>
          <a:blip r:embed="rId2"/>
          <a:stretch/>
        </p:blipFill>
        <p:spPr>
          <a:xfrm>
            <a:off x="568440" y="3633840"/>
            <a:ext cx="32828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laves of 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560" y="1600200"/>
            <a:ext cx="44038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ughly 1% of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ly owned &amp; owned by the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/ worked domest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owned/worked fo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tom of hierarch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www.mitchellteachers.net/WorldHistory/AncientChinaCurriculum/Transparencies/HansTransSlaves.jpg"/>
          <p:cNvPicPr/>
          <p:nvPr/>
        </p:nvPicPr>
        <p:blipFill>
          <a:blip r:embed="rId1"/>
          <a:stretch/>
        </p:blipFill>
        <p:spPr>
          <a:xfrm>
            <a:off x="3995640" y="2060640"/>
            <a:ext cx="48960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09:06Z</dcterms:created>
  <dc:creator>Red Deer Public Schools</dc:creator>
  <dc:description/>
  <dc:language>en-US</dc:language>
  <cp:lastModifiedBy>Red Deer Public Teacher</cp:lastModifiedBy>
  <dcterms:modified xsi:type="dcterms:W3CDTF">2010-10-07T18:40:01Z</dcterms:modified>
  <cp:revision>11</cp:revision>
  <dc:subject/>
  <dc:title>Han Dynasty 202 B.C.E-221 C.E</dc:title>
</cp:coreProperties>
</file>